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5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15EF-8361-46A9-A521-DEA33844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B6F8-C85F-4E16-9BB5-D76E13B7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E89E99-5590-43E0-8CDE-125900DF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E2F0F7-59A3-4A8B-911C-5B44A5CA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EF081F-8C90-4DE9-AD76-0816EA23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11B1A4-6117-4396-9FDF-C219B1FF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9CAE77-441D-4778-8261-7B052BF5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D8D024-EDA3-4F35-ACF2-D3DC8D1B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AF7000-95ED-470D-B0A7-8FAB2782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221691-1501-4CAC-A9BC-EB4EBAF43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499A5E-92A3-4691-AD40-82EB99FAE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EA4CBC-44B1-4A27-82A0-E39F29571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C62D-2273-44DE-B696-4B8DCA98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720E7-B184-45B8-8D59-6BBDAE6D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47411-2ADB-43FD-95F8-0CABFE50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6D9E1-1883-478C-8742-33B84F84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021B8-756A-44A8-8437-DD028E14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76EC88-5E74-4E02-BB27-1E987EEF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B1D2F4-9BC6-40B1-B472-D261F245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555A3-C8A6-4CFA-9D1C-51ABB783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82856-C7BA-4175-99EA-89EC428C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1494B-0D0B-4FE7-A4BC-7267246C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51C27-FAED-4437-8830-FCEE2BD6A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9ECF-8FF3-453D-A79D-51D30A806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1317B-B792-4F01-B7A3-D1E4A5DAA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4BBAF-8B56-42A5-86D8-D28E01B74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41282-2005-4EBD-9E23-1AE5E1D8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F263B-EC20-44F1-BA61-B8BB2B61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4F4CC-A7D8-4FB5-9590-DBE0831C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35D56-50DB-4112-8E13-E9FED41A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AF6D1-8707-48C1-9441-C8FBDD10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66024-EBCD-4D34-8360-88249560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DE6C7-BF36-413A-BC0B-BD5301E8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EF37A-2C67-4685-8C4F-46C117B3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D6784-EF7B-43C0-BDCD-009A6882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23644-9286-4B5B-9352-E0D4857C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D3839-C135-4E1C-BBC3-21737374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3C156-2CD4-4080-A81B-1C1F7E364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BB7FE-6D13-4F2B-8A83-DC1B1D1C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EE45F-83CC-4420-A060-7B8276B6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57BCC-3A9D-48F9-B339-EE65A814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7ACA6-6F8F-4290-B960-E4B463A8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833962-D863-46E0-8F2D-E9EDE2FD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E70C5-3C9C-47AF-8EBB-EE9BFF97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19E4CB-67D7-443C-A773-B12D6692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1FE6B-196C-4FE9-A0B6-BE00E72B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AC69D-39D7-49C4-ACED-6CAC159F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3E9B4-4015-484F-995F-8FBEEAC7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B480A7-9C83-467F-A146-9B9B5C4E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1E3EC4-3483-4E2D-82B3-C3C7A200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DE1D5-70CA-439F-8DBB-453C0D6FC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3056D-0AA3-40AC-ACC0-8F554615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BCEAF-2957-4A8D-A3C9-F6C5F60C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8A579-B9BD-4B14-89F1-CC39D802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8078F-C3BC-4550-B4AD-72E07932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614DA-0797-4F2A-B30F-7486E954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D28D-1290-4C8D-92E6-F187A873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16714-8153-4E8E-B828-CADAD06D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7FBE7-BF1C-467E-BC9D-C5602857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D4D30-DA82-4A46-9234-C328461C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2EB9E-D8D8-46E5-93D9-11145C75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53DC4-77A8-4A75-A665-B6338BE56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A038A-00A7-4A9E-8FAF-FCA459A72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4C661-1004-4956-9D29-58055091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A4D8E-7E12-4161-9216-B8B39E0E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55844-C27F-4E52-BC8B-23183CD9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3E81C-EAF9-4179-975F-7F5C2D09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44A8-D225-4E4E-8B3E-E6B4CC10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A5C11-5639-4148-84D9-EE98A438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1A46B-A4F7-4D2A-9316-72F22778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0EDDB-608D-4C1E-880D-E7713105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73BAE-CD0B-4155-88F5-2155FC4E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A6FF5-5B65-4E30-8157-72174D3F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372F3-166E-49CF-A761-183E9DC86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1F7AD-6493-4164-B30E-022C09B6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4E8D0F-CCF4-4934-9F24-98F6A234A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2B41DD-FDDF-4DA2-9723-E6893AF7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6C8909-A879-4056-8F58-BC20614C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7551-FBF0-4AE6-948F-75E2A1EF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676C04-D902-46FE-AFBC-9923BA3E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275315-F4D1-4D4A-A09E-4BF87BA7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8D7A65-2A91-4DE3-9428-705F133F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E31FC9-FD9B-4383-8B93-A0AA858C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8DAF91-7B48-413F-A574-D5A09FC5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19C37F-8F6D-47A6-9B68-368DBAC5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82FD9E-F5D0-4B41-8E25-41E8213D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824045-387B-4940-A0E4-1B83E1D52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9BB8BC-E7E0-4C8F-B1C0-91E78A9FB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CE6EB-C8CE-4794-B133-AA02E7CEE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9565-C72C-43FC-ABDD-52A46DBC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C4ACA-2CE3-4FB3-AC49-EB574C78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E70FB-38F5-49A5-9059-E6714C41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5A78F-D01A-44F8-A71E-1D75E0B1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AAF66-A654-4251-B297-3F912216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6E1AF-6D94-44D1-86CF-FE01131A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2F891-8A29-4F99-9302-0320F631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AB158-32DB-4960-B3BF-7F225EB1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14583-21D3-4703-89C4-01D9466F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4D11D-CD1B-473B-8072-CBC88076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BD6AE-5528-4334-B231-4494C166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0603-7A66-43EF-B43B-731C661E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CD082-C75B-47F3-AA0C-4ABC78FC3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98090-735D-45B8-B9A9-15F848C21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53924-CE9D-4920-A244-50991F88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58EE0-C64D-4B7E-879B-819B19E5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86F27-175E-454F-AF20-D342A174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4A2D8-7EC2-4874-A730-612FB6D5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FAFAE-1FCA-468F-94FD-31DE0432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F287A-C80C-4728-B2A9-D4878FB2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22489-50AF-40CF-B299-40B1F4FB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485B0-420C-4AB0-B0A9-236D8459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9014-51E0-4264-A467-8D4ECF85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968C8-D809-4603-9581-8D4C016C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0E04B-1C84-40B8-A093-846DF891C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16E67-EF78-42B5-9D25-80186AA72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40B68-A456-49D3-B7E0-A26475B0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8B830-8310-4573-B146-F5D30112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8834E-DC7B-49C3-B2E3-A4ECA20E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0FA79-60CC-41B8-ADA7-FA6E5B63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CA8CD-DDEF-4DF1-9C73-32AE1DFE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A061F-0248-4A45-A5A4-0898568E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F3E6E-43C2-4BA8-BBCA-07514610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4BA3-DA8F-429A-A341-76A23746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2818B-ECC0-4006-99BD-7EEC53EA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00097-9DFC-49A7-87CD-D2159F80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0110F-E629-4951-AC09-4CC63230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9EC6A-5995-4AB3-A9D9-431E5B68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D3139-DDC2-4289-91BC-572F4904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9AE16B-6B4C-4394-96FB-C655F45D3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D0682B-8E2A-48F5-A4A5-1932028A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53C512-D8EA-4C6C-BC61-B6A89E93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E74DA7-F681-4DF8-982A-CAE7CC84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1DAD0C-B30C-41C3-B137-3742C5CA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07B7-A8DB-4412-8D13-8E21375C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6C04C5-F0AF-4FDF-BB4A-12A3AFF4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FF4C86-E61A-4800-B3B6-6FE03893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5208B9-C063-46D8-93CC-446A6A5A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351986-47F5-492A-8F0B-416EE366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DC8D84-37B0-4404-BD12-3771F40E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F90CAB-C384-4968-9097-2285AB90F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3AD0E5-60F4-4CDE-B37B-18737121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EE6B7F-F390-4BC3-9565-07809A69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59C15C-F1CA-47DE-BDFD-9BD7A592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93B5E0-20A5-4135-9759-5E1CD3B0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4980-831D-4EA5-91EC-CE8F6335EEA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95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B358-9F45-45CB-BF52-D48833ADFAC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3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0426-B008-43FF-9285-8EFFE575E3F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83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893A-9AB3-46B2-8994-11C71A484DE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99D5-EB43-49DD-BE8E-20CC9219513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FA29-008C-450F-BA5E-A72000FB92A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874E-2E9A-4019-9359-E132DD339E7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584E-6BAD-4F5F-A358-6DB7583DE5E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8718-9956-42F2-97B6-9E14BB48C0B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12EF-1DA7-4FAC-A64E-6906FC3B941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3AF5-8F2A-4D9B-977C-73833A54B17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C815-6200-441D-BB9B-FD56D8F843C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0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hyperlink" Target="http://www.firstworldwar.com/posters/canada.htm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hyperlink" Target="file:///seven_tricks.html" TargetMode="External"/><Relationship Id="rId4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Rectangle 4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9637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5" descr="pp_can_06"/>
          <p:cNvPicPr/>
          <p:nvPr/>
        </p:nvPicPr>
        <p:blipFill>
          <a:blip r:embed="rId3"/>
          <a:stretch/>
        </p:blipFill>
        <p:spPr>
          <a:xfrm>
            <a:off x="2700360" y="1341360"/>
            <a:ext cx="33987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10" descr="pp_uk_06"/>
          <p:cNvPicPr/>
          <p:nvPr/>
        </p:nvPicPr>
        <p:blipFill>
          <a:blip r:embed="rId2"/>
          <a:stretch/>
        </p:blipFill>
        <p:spPr>
          <a:xfrm>
            <a:off x="2556000" y="189000"/>
            <a:ext cx="4464000" cy="6630840"/>
          </a:xfrm>
          <a:prstGeom prst="rect">
            <a:avLst/>
          </a:prstGeom>
          <a:ln w="0">
            <a:noFill/>
          </a:ln>
        </p:spPr>
      </p:pic>
      <p:sp>
        <p:nvSpPr>
          <p:cNvPr id="550" name="TextBox 8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Box 7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2" name="Picture 8" descr="pp_can_04"/>
          <p:cNvPicPr/>
          <p:nvPr/>
        </p:nvPicPr>
        <p:blipFill>
          <a:blip r:embed="rId2"/>
          <a:stretch/>
        </p:blipFill>
        <p:spPr>
          <a:xfrm>
            <a:off x="2556000" y="333360"/>
            <a:ext cx="4032000" cy="61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9" descr="pp_uk_07"/>
          <p:cNvPicPr/>
          <p:nvPr/>
        </p:nvPicPr>
        <p:blipFill>
          <a:blip r:embed="rId2"/>
          <a:stretch/>
        </p:blipFill>
        <p:spPr>
          <a:xfrm>
            <a:off x="2340000" y="252360"/>
            <a:ext cx="4176720" cy="6505560"/>
          </a:xfrm>
          <a:prstGeom prst="rect">
            <a:avLst/>
          </a:prstGeom>
          <a:ln w="0">
            <a:noFill/>
          </a:ln>
        </p:spPr>
      </p:pic>
      <p:sp>
        <p:nvSpPr>
          <p:cNvPr id="554" name="TextBox 6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Box 7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6" name="Picture 13" descr="http://www.google.ca/url?source=imgres&amp;ct=img&amp;q=http://s3.hubimg.com/u/1116470_f520.jpg&amp;sa=X&amp;ei=Qb1nTfTEIcq4tgeyxYXoAw&amp;ved=0CAQQ8wc&amp;usg=AFQjCNEG6Jrnz35ujutLMMvfQM8bzsjvtw"/>
          <p:cNvPicPr/>
          <p:nvPr/>
        </p:nvPicPr>
        <p:blipFill>
          <a:blip r:embed="rId2"/>
          <a:stretch/>
        </p:blipFill>
        <p:spPr>
          <a:xfrm>
            <a:off x="2700360" y="316080"/>
            <a:ext cx="4248000" cy="65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5" descr="pp_uk_08"/>
          <p:cNvPicPr/>
          <p:nvPr/>
        </p:nvPicPr>
        <p:blipFill>
          <a:blip r:embed="rId2"/>
          <a:stretch/>
        </p:blipFill>
        <p:spPr>
          <a:xfrm>
            <a:off x="2916360" y="333360"/>
            <a:ext cx="4103640" cy="6291360"/>
          </a:xfrm>
          <a:prstGeom prst="rect">
            <a:avLst/>
          </a:prstGeom>
          <a:ln w="0">
            <a:noFill/>
          </a:ln>
        </p:spPr>
      </p:pic>
      <p:sp>
        <p:nvSpPr>
          <p:cNvPr id="558" name="TextBox 6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12" descr="pp_uk_09"/>
          <p:cNvPicPr/>
          <p:nvPr/>
        </p:nvPicPr>
        <p:blipFill>
          <a:blip r:embed="rId2"/>
          <a:stretch/>
        </p:blipFill>
        <p:spPr>
          <a:xfrm>
            <a:off x="2916360" y="260280"/>
            <a:ext cx="4248000" cy="6330960"/>
          </a:xfrm>
          <a:prstGeom prst="rect">
            <a:avLst/>
          </a:prstGeom>
          <a:ln w="0">
            <a:noFill/>
          </a:ln>
        </p:spPr>
      </p:pic>
      <p:sp>
        <p:nvSpPr>
          <p:cNvPr id="560" name="TextBox 5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http://www.google.ca/url?source=imgres&amp;ct=img&amp;q=http://www.underconsideration.com/speakup/archives/SU_war-2.jpg&amp;sa=X&amp;ei=EL5nTYnKAYWUtwfp8vjnAw&amp;ved=0CAQQ8wc4LQ&amp;usg=AFQjCNHdqX1i7_gVeU7KFKlsTkt7JcypsQ"/>
          <p:cNvPicPr/>
          <p:nvPr/>
        </p:nvPicPr>
        <p:blipFill>
          <a:blip r:embed="rId2"/>
          <a:stretch/>
        </p:blipFill>
        <p:spPr>
          <a:xfrm>
            <a:off x="1835280" y="1413000"/>
            <a:ext cx="6756120" cy="5025960"/>
          </a:xfrm>
          <a:prstGeom prst="rect">
            <a:avLst/>
          </a:prstGeom>
          <a:ln w="0">
            <a:noFill/>
          </a:ln>
        </p:spPr>
      </p:pic>
      <p:sp>
        <p:nvSpPr>
          <p:cNvPr id="562" name="TextBox 2"/>
          <p:cNvSpPr/>
          <p:nvPr/>
        </p:nvSpPr>
        <p:spPr>
          <a:xfrm>
            <a:off x="684360" y="692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4" descr="http://www.google.ca/url?source=imgres&amp;ct=img&amp;q=http://www.warandgender.com/5_fig010.jpg&amp;sa=X&amp;ei=0c9nTYGGMcrAtgey7ZzoAw&amp;ved=0CAQQ8wc4Ww&amp;usg=AFQjCNFqzvs4DXBZdshOaoztOPLHd8mvEQ"/>
          <p:cNvPicPr/>
          <p:nvPr/>
        </p:nvPicPr>
        <p:blipFill>
          <a:blip r:embed="rId2"/>
          <a:stretch/>
        </p:blipFill>
        <p:spPr>
          <a:xfrm>
            <a:off x="2556000" y="333360"/>
            <a:ext cx="4181400" cy="6203880"/>
          </a:xfrm>
          <a:prstGeom prst="rect">
            <a:avLst/>
          </a:prstGeom>
          <a:ln w="0">
            <a:noFill/>
          </a:ln>
        </p:spPr>
      </p:pic>
      <p:sp>
        <p:nvSpPr>
          <p:cNvPr id="564" name="TextBox 2"/>
          <p:cNvSpPr/>
          <p:nvPr/>
        </p:nvSpPr>
        <p:spPr>
          <a:xfrm>
            <a:off x="684360" y="692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http://www.google.ca/url?source=imgres&amp;ct=img&amp;q=http://www.pinetreeweb.com/bp-ww1-poster.jpg&amp;sa=X&amp;ei=FNBnTaKFJIWXtwfPzqjoAw&amp;ved=0CAQQ8wc4Ww&amp;usg=AFQjCNE3K16jozMNvu4NStfP2ZqZN7lg5g"/>
          <p:cNvPicPr/>
          <p:nvPr/>
        </p:nvPicPr>
        <p:blipFill>
          <a:blip r:embed="rId2"/>
          <a:stretch/>
        </p:blipFill>
        <p:spPr>
          <a:xfrm>
            <a:off x="2771640" y="223920"/>
            <a:ext cx="4297320" cy="6634080"/>
          </a:xfrm>
          <a:prstGeom prst="rect">
            <a:avLst/>
          </a:prstGeom>
          <a:ln w="0">
            <a:noFill/>
          </a:ln>
        </p:spPr>
      </p:pic>
      <p:sp>
        <p:nvSpPr>
          <p:cNvPr id="566" name="TextBox 2"/>
          <p:cNvSpPr/>
          <p:nvPr/>
        </p:nvSpPr>
        <p:spPr>
          <a:xfrm>
            <a:off x="684360" y="692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http://www.google.ca/url?source=imgres&amp;ct=img&amp;q=http://www.infobarrel.com/media/image/1385.jpg&amp;sa=X&amp;ei=Is9nTbeKKIS5tgevr6DoAw&amp;ved=0CAQQ8wc&amp;usg=AFQjCNHOqOEV_AP6pJPQBLhdvUTbFCibTA"/>
          <p:cNvPicPr/>
          <p:nvPr/>
        </p:nvPicPr>
        <p:blipFill>
          <a:blip r:embed="rId2"/>
          <a:stretch/>
        </p:blipFill>
        <p:spPr>
          <a:xfrm>
            <a:off x="1908000" y="0"/>
            <a:ext cx="4535640" cy="6719760"/>
          </a:xfrm>
          <a:prstGeom prst="rect">
            <a:avLst/>
          </a:prstGeom>
          <a:ln w="0">
            <a:noFill/>
          </a:ln>
        </p:spPr>
      </p:pic>
      <p:sp>
        <p:nvSpPr>
          <p:cNvPr id="568" name="TextBox 2"/>
          <p:cNvSpPr/>
          <p:nvPr/>
        </p:nvSpPr>
        <p:spPr>
          <a:xfrm>
            <a:off x="684360" y="692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Rectangle 4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242560" cy="143352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5840" indent="-2858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ckwell"/>
              </a:rPr>
              <a:t>Propaganda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is a specific type of message presentation aimed at serving an agenda. At its root, the denotation of propaganda is 'to propagate (actively spread) a philosophy or point of view'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e most common use of the term (historically) is in political contexts; in particular to refer to certain efforts sponsored by governments or political groups. (Wikipedia)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30" name="Picture 9" descr="pp_can_09"/>
          <p:cNvPicPr/>
          <p:nvPr/>
        </p:nvPicPr>
        <p:blipFill>
          <a:blip r:embed="rId3"/>
          <a:stretch/>
        </p:blipFill>
        <p:spPr>
          <a:xfrm>
            <a:off x="5289480" y="1905120"/>
            <a:ext cx="2755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Title 1" descr=""/>
          <p:cNvPicPr/>
          <p:nvPr/>
        </p:nvPicPr>
        <p:blipFill>
          <a:blip r:embed="rId2"/>
          <a:stretch/>
        </p:blipFill>
        <p:spPr>
          <a:xfrm>
            <a:off x="457200" y="378000"/>
            <a:ext cx="8242200" cy="224928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250560" y="3068640"/>
            <a:ext cx="8497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orld War I Posters- Canada </a:t>
            </a:r>
            <a:br>
              <a:rPr sz="3200"/>
            </a:br>
            <a:r>
              <a:rPr b="0" lang="en-US" sz="3200" spc="-1" strike="noStrike" u="sng">
                <a:solidFill>
                  <a:srgbClr val="db5353"/>
                </a:solidFill>
                <a:uFillTx/>
                <a:latin typeface="Rockwell"/>
                <a:hlinkClick r:id="rId3"/>
              </a:rPr>
              <a:t>http://www.firstworldwar.com/posters/canada.ht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Rectangle 4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242560" cy="11649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Each of the nations which participated in World War One from 1914-18 used propaganda poster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hey used posters to: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justify their involvement to their own populace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As a means of recruiting men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A way to raise money and resources to sustain the military campaign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o urge conservation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33" name="Picture 10" descr="pp_uk_33"/>
          <p:cNvPicPr/>
          <p:nvPr/>
        </p:nvPicPr>
        <p:blipFill>
          <a:blip r:embed="rId3"/>
          <a:stretch/>
        </p:blipFill>
        <p:spPr>
          <a:xfrm>
            <a:off x="5148360" y="1484280"/>
            <a:ext cx="334620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Rectangle 2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242560" cy="1164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elevision had not yet been invented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Not everyone owned or had access to a radio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Posters were the most effective means of getting a message acros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36" name="Picture 16" descr="http://www.google.ca/url?source=imgres&amp;ct=img&amp;q=http://rlv.zcache.com/ww1_collectors_card_1914_canada_propaganda_postcard-p239228030672924246trdg_400.jpg&amp;sa=X&amp;ei=ub1nTb7ECIHHtgej1pnoAw&amp;ved=0CAQQ8wc&amp;usg=AFQjCNHqVicEdsZbF8RHg_MN0xkrsCMTRg"/>
          <p:cNvPicPr/>
          <p:nvPr/>
        </p:nvPicPr>
        <p:blipFill>
          <a:blip r:embed="rId3"/>
          <a:stretch/>
        </p:blipFill>
        <p:spPr>
          <a:xfrm>
            <a:off x="4788000" y="177336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Rectangle 4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242560" cy="143352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211640" y="1905120"/>
            <a:ext cx="468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82960" indent="-282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Quite often propaganda is connected with negative emotion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82960" indent="-282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During the Great War the governments needed money for the war effort so they focused their efforts on posters aimed at raising money from citizens for the war effor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AutoShape 11"/>
          <p:cNvSpPr/>
          <p:nvPr/>
        </p:nvSpPr>
        <p:spPr>
          <a:xfrm>
            <a:off x="77760" y="-1257480"/>
            <a:ext cx="17431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0" name="Picture 13" descr="http://www.google.ca/url?source=imgres&amp;ct=img&amp;q=http://www.ww1westernfront.gov.au/notre-dame/images/awm-artv00468.jpg&amp;sa=X&amp;ei=HL1nTfi4GJG3twfg-ojoAw&amp;ved=0CAQQ8wc&amp;usg=AFQjCNH1W85C4FmIQqqyLWn6M4D7BeumJA"/>
          <p:cNvPicPr/>
          <p:nvPr/>
        </p:nvPicPr>
        <p:blipFill>
          <a:blip r:embed="rId3"/>
          <a:stretch/>
        </p:blipFill>
        <p:spPr>
          <a:xfrm>
            <a:off x="971640" y="1773360"/>
            <a:ext cx="273672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Rectangle 2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242560" cy="140328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db5353"/>
                </a:solidFill>
                <a:uFillTx/>
                <a:latin typeface="Rockwell"/>
                <a:hlinkClick r:id="rId3"/>
              </a:rPr>
              <a:t>Seven Tricks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Rockwell"/>
              </a:rPr>
              <a:t>(link)</a:t>
            </a:r>
            <a:br>
              <a:rPr sz="3400"/>
            </a:br>
            <a:br>
              <a:rPr sz="3400"/>
            </a:br>
            <a:r>
              <a:rPr b="0" lang="en-US" sz="3400" spc="-1" strike="noStrike" u="sng">
                <a:solidFill>
                  <a:srgbClr val="ffffff"/>
                </a:solidFill>
                <a:uFillTx/>
                <a:latin typeface="Rockwel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Rockwell"/>
              </a:rPr>
              <a:t>Activity:  In small groups, examine the following posters and identify the ‘tricks’ used in the posters.  Each group will present their conclusions to the class.</a:t>
            </a:r>
            <a:endParaRPr b="0" lang="en-US" sz="3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9" descr="pp_uk_02"/>
          <p:cNvPicPr/>
          <p:nvPr/>
        </p:nvPicPr>
        <p:blipFill>
          <a:blip r:embed="rId2"/>
          <a:stretch/>
        </p:blipFill>
        <p:spPr>
          <a:xfrm>
            <a:off x="2195640" y="189000"/>
            <a:ext cx="4608360" cy="6541920"/>
          </a:xfrm>
          <a:prstGeom prst="rect">
            <a:avLst/>
          </a:prstGeom>
          <a:ln w="0">
            <a:noFill/>
          </a:ln>
        </p:spPr>
      </p:pic>
      <p:sp>
        <p:nvSpPr>
          <p:cNvPr id="544" name="TextBox 8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3" descr="pp_uk_01"/>
          <p:cNvPicPr/>
          <p:nvPr/>
        </p:nvPicPr>
        <p:blipFill>
          <a:blip r:embed="rId2"/>
          <a:stretch/>
        </p:blipFill>
        <p:spPr>
          <a:xfrm>
            <a:off x="2050920" y="115920"/>
            <a:ext cx="4465800" cy="6584760"/>
          </a:xfrm>
          <a:prstGeom prst="rect">
            <a:avLst/>
          </a:prstGeom>
          <a:ln w="0">
            <a:noFill/>
          </a:ln>
        </p:spPr>
      </p:pic>
      <p:sp>
        <p:nvSpPr>
          <p:cNvPr id="546" name="TextBox 5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9" descr="pp_can_09"/>
          <p:cNvPicPr/>
          <p:nvPr/>
        </p:nvPicPr>
        <p:blipFill>
          <a:blip r:embed="rId2"/>
          <a:stretch/>
        </p:blipFill>
        <p:spPr>
          <a:xfrm>
            <a:off x="2340000" y="291960"/>
            <a:ext cx="4176720" cy="6232680"/>
          </a:xfrm>
          <a:prstGeom prst="rect">
            <a:avLst/>
          </a:prstGeom>
          <a:ln w="0">
            <a:noFill/>
          </a:ln>
        </p:spPr>
      </p:pic>
      <p:sp>
        <p:nvSpPr>
          <p:cNvPr id="548" name="TextBox 5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22:08:58Z</dcterms:created>
  <dc:creator>Rob Cotey</dc:creator>
  <dc:description/>
  <dc:language>en-US</dc:language>
  <cp:lastModifiedBy>Craig Rush</cp:lastModifiedBy>
  <dcterms:modified xsi:type="dcterms:W3CDTF">2011-11-14T00:07:32Z</dcterms:modified>
  <cp:revision>16</cp:revision>
  <dc:subject/>
  <dc:title>Propaganda in World War One</dc:title>
</cp:coreProperties>
</file>